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D25-80FB-44A0-B904-64CA9957698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B00-9472-4772-ACE4-0C405F6B810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D87-1463-4C07-BA9C-B8844FEA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28D-59ED-43A6-86AA-D1DC299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FF3-444D-4B41-92B0-C575CE65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D4E-896F-4D7E-BC6D-D50B1CF7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F32B-4FA4-4867-81F5-7A9E029F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ACDC-61BB-4B32-9657-DEFF5347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DCE-EF9E-48F4-84F4-BE54BEEF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962-6C09-4B76-A061-7D72DCE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78A5-33C0-4D57-A6D2-943090F7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B9CD-AAF0-45EB-8C4B-0453B61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1D9-7D1D-46F1-B335-DF0E816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79-FB56-476F-A61B-FCCCB66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83D0-21AA-45A6-93C1-0ACB578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C3F6-7EE1-4ABC-A219-DB113D7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26A-B7C1-4917-9C69-56A9C45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D10-4EDB-4B50-AA74-3CB77FF6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350C-4948-4DC6-9216-0F47B830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5CA4-FA7A-48EF-A9B0-76068CD8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94FB-D2C3-407B-8C4E-7B60A87D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4C78-B6F8-4E1C-AEB0-624D24E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B294-3EBF-4BDD-A9E8-38B3A785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CA29-8D2E-4242-9E09-A51D950A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348-F667-4FCA-9C60-2573028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2FD5-DFC0-4055-A811-F750FFF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3959-FE09-4415-97EF-AD62F36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CD90-CE60-48F1-8AA5-6556728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287B-DCFA-4503-9508-5DCD3DB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623D-3BF4-4E15-85F8-507527B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5CF9-00D0-48FA-B998-4B4C415C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1F0D-3B22-4888-B83A-48B23780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FC716-E2B8-466B-9F10-05A1FDDC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A1DE-E80C-4041-B0FF-CD2E565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442E-466F-40F5-A0CE-BBA873CB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BF3-3F82-4FE1-8D7A-7F69A2A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7AD1-690E-4741-85AB-15816AA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C1D5-D7E2-469E-90D1-69AB397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33F90-D54D-477E-BBC2-14C100A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2DC0-D7BF-4423-8379-8FB98DF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5B2E-847A-4DDB-A123-6251910C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A2BA9-053C-4E55-B749-5EDC7E29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AC24-DCAB-49F6-ADD7-7855342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8D43-0F8D-4E1E-A3D1-39586A16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B397-3BC3-4BAF-8710-11542F38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B7D-1ACF-487C-88F3-094B0F8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CFE-E14F-4F9D-89C8-3803BB1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825-5455-487F-AB6F-9E55CF7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FA-2EE0-43D7-A302-1DAB591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9D1-B857-4A58-BECE-C8776F9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D6F0-D822-4F27-AFAD-94913C9363CB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ED62-1A38-49BB-9578-9D00D0E55FA8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4E4-37E4-43E0-B9A8-D8895B91E454}" type="slidenum">
              <a:rPr b="0" lang="es-MX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AF1-177C-464E-9DAA-FC296472FEB2}" type="slidenum">
              <a:rPr b="0" lang="es-MX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&#193;lvaro_Obreg&#243;n_(Distrito_Federal)" TargetMode="External"/><Relationship Id="rId2" Type="http://schemas.openxmlformats.org/officeDocument/2006/relationships/hyperlink" Target="http://es.wikipedia.org/wiki/Azcapotzalco" TargetMode="External"/><Relationship Id="rId3" Type="http://schemas.openxmlformats.org/officeDocument/2006/relationships/hyperlink" Target="http://es.wikipedia.org/wiki/Benito_Ju&#225;rez_(Distrito_Federal)" TargetMode="External"/><Relationship Id="rId4" Type="http://schemas.openxmlformats.org/officeDocument/2006/relationships/hyperlink" Target="http://es.wikipedia.org/wiki/Coyoac&#225;n" TargetMode="External"/><Relationship Id="rId5" Type="http://schemas.openxmlformats.org/officeDocument/2006/relationships/hyperlink" Target="http://es.wikipedia.org/wiki/Cuajimalpa_de_Morelos" TargetMode="External"/><Relationship Id="rId6" Type="http://schemas.openxmlformats.org/officeDocument/2006/relationships/hyperlink" Target="http://es.wikipedia.org/wiki/Cuauht&#233;moc_(Distrito_Federal)" TargetMode="External"/><Relationship Id="rId7" Type="http://schemas.openxmlformats.org/officeDocument/2006/relationships/hyperlink" Target="http://es.wikipedia.org/wiki/Gustavo_A._Madero_(Distrito_Federal)" TargetMode="External"/><Relationship Id="rId8" Type="http://schemas.openxmlformats.org/officeDocument/2006/relationships/hyperlink" Target="http://es.wikipedia.org/wiki/Iztacalco" TargetMode="External"/><Relationship Id="rId9" Type="http://schemas.openxmlformats.org/officeDocument/2006/relationships/hyperlink" Target="http://es.wikipedia.org/wiki/Iztapalapa" TargetMode="External"/><Relationship Id="rId10" Type="http://schemas.openxmlformats.org/officeDocument/2006/relationships/hyperlink" Target="http://es.wikipedia.org/wiki/La_Magdalena_Contreras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433440" y="3060720"/>
            <a:ext cx="8577360" cy="1895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26920" y="4869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Maestra: Eva Luz Irene Luna Varg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2 Imagen" descr=""/>
          <p:cNvPicPr/>
          <p:nvPr/>
        </p:nvPicPr>
        <p:blipFill>
          <a:blip r:embed="rId1"/>
          <a:srcRect l="23761" t="28804" r="8690" b="11414"/>
          <a:stretch/>
        </p:blipFill>
        <p:spPr>
          <a:xfrm>
            <a:off x="324000" y="549360"/>
            <a:ext cx="8496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3 Imagen" descr=""/>
          <p:cNvPicPr/>
          <p:nvPr/>
        </p:nvPicPr>
        <p:blipFill>
          <a:blip r:embed="rId1"/>
          <a:srcRect l="35303" t="27992" r="16329" b="8698"/>
          <a:stretch/>
        </p:blipFill>
        <p:spPr>
          <a:xfrm>
            <a:off x="1042920" y="1174680"/>
            <a:ext cx="6397560" cy="4991040"/>
          </a:xfrm>
          <a:prstGeom prst="rect">
            <a:avLst/>
          </a:prstGeom>
          <a:ln w="0">
            <a:noFill/>
          </a:ln>
        </p:spPr>
      </p:pic>
      <p:sp>
        <p:nvSpPr>
          <p:cNvPr id="206" name="2 CuadroTexto"/>
          <p:cNvSpPr/>
          <p:nvPr/>
        </p:nvSpPr>
        <p:spPr>
          <a:xfrm>
            <a:off x="5724360" y="2349360"/>
            <a:ext cx="2303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nstantia"/>
              </a:rPr>
              <a:t>DISTRITO FEDER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CENSO DE POBLACIÓN Y VIVIENDA, 20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4 Imagen" descr=""/>
          <p:cNvPicPr/>
          <p:nvPr/>
        </p:nvPicPr>
        <p:blipFill>
          <a:blip r:embed="rId2"/>
          <a:srcRect l="35474" t="32612" r="24646" b="8967"/>
          <a:stretch/>
        </p:blipFill>
        <p:spPr>
          <a:xfrm>
            <a:off x="5219640" y="3573360"/>
            <a:ext cx="309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835280" y="907920"/>
          <a:ext cx="5832360" cy="5329440"/>
        </p:xfrm>
        <a:graphic>
          <a:graphicData uri="http://schemas.openxmlformats.org/drawingml/2006/table">
            <a:tbl>
              <a:tblPr/>
              <a:tblGrid>
                <a:gridCol w="3108240"/>
                <a:gridCol w="1658880"/>
                <a:gridCol w="1065240"/>
              </a:tblGrid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g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 (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(km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9"/>
                    </a:solidFill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7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Alvaro Obreg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.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Azcapotza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.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Benito Juá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Coyoac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8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Cuajimal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.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Cuauhtém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.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Gustavo A. M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93.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Iztaca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5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Iztapala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20.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Magdalena Contre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.9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guel Hidal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.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lpa 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láhu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.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lal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.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25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enustiano Carran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.4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ochimil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.4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20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99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1692360" y="1341360"/>
          <a:ext cx="5884920" cy="47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341360"/>
                    <a:ext cx="58849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Object 1" descr=""/>
          <p:cNvPicPr/>
          <p:nvPr/>
        </p:nvPicPr>
        <p:blipFill>
          <a:blip r:embed="rId1"/>
          <a:stretch/>
        </p:blipFill>
        <p:spPr>
          <a:xfrm>
            <a:off x="1014480" y="1413000"/>
            <a:ext cx="7751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Gráfico 1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2484360" y="3789360"/>
            <a:ext cx="5629320" cy="25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468360" y="1006560"/>
          <a:ext cx="4895640" cy="2106360"/>
        </p:xfrm>
        <a:graphic>
          <a:graphicData uri="http://schemas.openxmlformats.org/drawingml/2006/table">
            <a:tbl>
              <a:tblPr/>
              <a:tblGrid>
                <a:gridCol w="819000"/>
                <a:gridCol w="762120"/>
                <a:gridCol w="834840"/>
                <a:gridCol w="814680"/>
                <a:gridCol w="765000"/>
                <a:gridCol w="900000"/>
              </a:tblGrid>
              <a:tr h="1926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ec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gridSpan="5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ZONA SUR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M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acac"/>
                    </a:solidFill>
                  </a:tcPr>
                </a:tc>
              </a:tr>
              <a:tr h="29376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3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4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5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6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520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7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4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8/01/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908000" y="1484280"/>
          <a:ext cx="4673880" cy="781200"/>
        </p:xfrm>
        <a:graphic>
          <a:graphicData uri="http://schemas.openxmlformats.org/drawingml/2006/table">
            <a:tbl>
              <a:tblPr/>
              <a:tblGrid>
                <a:gridCol w="333720"/>
                <a:gridCol w="331560"/>
                <a:gridCol w="333360"/>
                <a:gridCol w="333360"/>
                <a:gridCol w="333360"/>
                <a:gridCol w="400320"/>
                <a:gridCol w="399960"/>
                <a:gridCol w="398520"/>
                <a:gridCol w="399960"/>
                <a:gridCol w="333360"/>
                <a:gridCol w="333360"/>
                <a:gridCol w="333360"/>
                <a:gridCol w="409680"/>
              </a:tblGrid>
              <a:tr h="200160">
                <a:tc gridSpan="1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DO DE VERACRUZ TEMPERATURA (°C) Y PRECIPITACIÓN (mm) en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5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2 Gráfico" descr=""/>
          <p:cNvPicPr/>
          <p:nvPr/>
        </p:nvPicPr>
        <p:blipFill>
          <a:blip r:embed="rId1"/>
          <a:stretch/>
        </p:blipFill>
        <p:spPr>
          <a:xfrm>
            <a:off x="1974960" y="3060720"/>
            <a:ext cx="4584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2:08:18Z</dcterms:created>
  <dc:creator>Emilio</dc:creator>
  <dc:description/>
  <dc:language>en-US</dc:language>
  <cp:lastModifiedBy>Invitadoss</cp:lastModifiedBy>
  <dcterms:modified xsi:type="dcterms:W3CDTF">2011-05-20T21:32:41Z</dcterms:modified>
  <cp:revision>4</cp:revision>
  <dc:subject/>
  <dc:title>TABLAS, GRÁFICAS E INFORMACIÓN ESTADÍSTICA.</dc:title>
</cp:coreProperties>
</file>